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70C4A-65AE-488B-BF85-C402381CF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5DDD7-43C4-4A88-8B4E-758B4966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F2FAC-3039-4650-A9BD-8F2A0CB69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87834-33CD-4105-A9E6-BD4DACA61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E992F-08C3-4B49-B6E1-A8C3ABA81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3F4F6-3EE1-48CA-85A5-8EC20A50E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E5C8E-05F0-410B-B4D1-65B1B8376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EDEA0-3886-4BE8-B480-86BCC9A2F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4607F-BE00-4765-A54A-1A9E9FB99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6050D-E919-4CAA-9A53-90E50150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A1EED-5ACA-4A0B-9E72-CDF4DE322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B350-5408-41B6-AEC5-87E97AEB5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4B06-8FB2-4292-84A0-F8000CE43B0B}"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360"/>
            <a:ext cx="77724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Desert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limate</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hot throughout the year, the temperature of ten remains above 30°C for long peri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erts are also very dry places, usually placed in the central regions of a contin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tend to receive an average of less than 300mm of rain each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il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ert soils</a:t>
            </a:r>
            <a:r>
              <a:rPr b="0" lang="en-US" sz="3200" spc="-1" strike="noStrike">
                <a:solidFill>
                  <a:srgbClr val="000000"/>
                </a:solidFill>
                <a:latin typeface="Calibri"/>
              </a:rPr>
              <a:t> are alkaline, and are very dry with little hum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y are not infertile, as areas that have been irrigated have produced good cro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plants could not survive in the desert soil but some have evolved to cope with the lack of water and nutri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Vegetation</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ts have to cope with very little water in the hot deser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es such as cacti have evolved to reduce water loss to a minimum.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waxy skins and spiky leaves reduce transpiration, whilst their thick stems act as an excellent water stor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plants have evolved extensive, deep root systems that search out the last drops of water underground, whilst others have all their roots very close to the surface in an attempt to capture all available rainwat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e to lack of water plants are often found widely spaced apar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plants have seeds that only germinate when the rains com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can lie dormant for years, and then burst into life with the rai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Desert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Oil:</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have found little use in the hot, dry desert regions of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one very important resource that is found in some desert regions is oil, which is essential for most countries of the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0:24:22Z</dcterms:created>
  <dc:creator>Dell_02</dc:creator>
  <dc:description/>
  <dc:language>en-US</dc:language>
  <cp:lastModifiedBy>Dell_02</cp:lastModifiedBy>
  <dcterms:modified xsi:type="dcterms:W3CDTF">2011-01-28T00:44:37Z</dcterms:modified>
  <cp:revision>2</cp:revision>
  <dc:subject/>
  <dc:title>Deserts</dc:title>
</cp:coreProperties>
</file>